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gif" ContentType="image/gif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0.wmf" ContentType="image/x-wmf"/>
  <Override PartName="/ppt/media/image7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5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6.png" ContentType="image/png"/>
  <Override PartName="/ppt/media/image3.gif" ContentType="image/gif"/>
  <Override PartName="/ppt/media/image17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6F3-561C-46E4-99E1-FE3970FF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E40-B26D-4246-AD3A-E4401D3B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18E-E267-4605-BCB6-F7919981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123-FC64-4E40-9ACE-B7472644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D172-0E74-4C71-9E6B-71778C18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9573-A26E-40A3-85E0-8C53F9D7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CF9-6E98-4095-9BA5-09F2019F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05E3-806E-4235-8101-2D765E0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EEC2-E32A-4099-A7B8-1A97CF6D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2584-C930-4540-AE1A-026808C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647-C675-4047-B114-F9473C2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D11-4851-4526-8726-341B33A1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5525-929A-4C76-9B8E-699C4CA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39CC-9847-476C-8A85-39FFAE5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AE07-5FED-462C-85B1-B207451E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BF39-DE46-4244-8F73-FCB9F927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C01-4C5B-4110-A533-355313A3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821-952D-4387-B77E-A9556F5C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789-1E7A-4F2A-A45C-B7545594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2EF-D8D8-4793-8B81-BFF1AFD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CEF-F5AE-49DD-93ED-67DFAFB2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8A8-E1CC-45CD-AB0C-F99D188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47F-A6F8-4891-944D-8D0E9B3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B1C-1C3E-44AA-8D0A-6B1CA2F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B8B-1EF3-48E9-B207-26C126679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048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9C8B-7AF4-4E2F-AAE9-635386FE6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image" Target="../media/image12.wm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048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Flight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860640"/>
            <a:ext cx="5486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 Foils and the Angle of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91520" y="-1523880"/>
            <a:ext cx="143172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0" y="3124080"/>
            <a:ext cx="183528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6185E-006 C -0.03992 0.05549 -0.07985 0.11121 -0.11735 0.15029 C -0.15485 0.18936 -0.20017 0.21734 -0.22534 0.23468 C -0.25051 0.25202 -0.24027 0.25063 -0.26822 0.25387 C -0.29617 0.25711 -0.34548 0.23445 -0.39357 0.25387 C -0.44166 0.27329 -0.51805 0.35052 -0.55711 0.36994 C -0.59617 0.38936 -0.61232 0.37965 -0.62847 0.36994 E">
                                      <p:cBhvr>
                                        <p:cTn id="6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-0.00416 L -1.21667 0.08878 E">
                                      <p:cBhvr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path" presetID="0" repeatCount="1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62847 0.36971 C -0.68941 0.36092 -0.75017 0.3519 -0.78403 0.32115 C -0.81788 0.29017 -0.83489 0.24231 -0.8316 0.18358 C -0.8283 0.12508 -0.7783 0.01387 -0.76441 -0.03075 E">
                                      <p:cBhvr>
                                        <p:cTn id="1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Wings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ape of a wing is called an “airfoi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irfoi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 streamlined shape with a rounded front edge and trailing back edge, designed to help lift or control an aircra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95480" y="4114800"/>
            <a:ext cx="381024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086600" y="3962520"/>
            <a:ext cx="160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rfoil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714640" y="4724280"/>
            <a:ext cx="12193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Airfoil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irfoil shape causes the Bernoulli principle to occur when an airplane mo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irfoil has two characteristic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ading ed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front edge of a wing, usually roun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71800" y="5029200"/>
            <a:ext cx="5486400" cy="109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04920" y="4952880"/>
            <a:ext cx="24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ading Edg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715000"/>
            <a:ext cx="3200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Airfoil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iling ed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back edge of a wing, usually sharply tap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5486400" cy="1092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324480" y="2895480"/>
            <a:ext cx="242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iling Edg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86400" y="3962520"/>
            <a:ext cx="3200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9372600" y="5410080"/>
            <a:ext cx="1803240" cy="87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9296280" y="-390600"/>
            <a:ext cx="1371600" cy="108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-1270080" y="1143000"/>
            <a:ext cx="1270080" cy="90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9448920" y="4038480"/>
            <a:ext cx="1218960" cy="111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93642E-007 L -1.24028 -0.26335 E">
                                      <p:cBhvr>
                                        <p:cTn id="6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C -0.12101 0.01434 -0.24202 0.02891 -0.34289 0.10775 C -0.44375 0.18659 -0.51563 0.36185 -0.60486 0.47353 C -0.69427 0.58498 -0.77865 0.75376 -0.87934 0.77573 C -0.98004 0.79769 -1.14028 0.64139 -1.2092 0.60602 E">
                                      <p:cBhvr>
                                        <p:cTn id="72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-2.31214E-006 C 0.07065 -0.02358 0.14149 -0.04693 0.20156 -0.03167 C 0.26163 -0.01641 0.30173 0.07908 0.36006 0.0911 C 0.41874 0.10312 0.49062 0.0296 0.55208 0.04023 C 0.61371 0.05087 0.67239 0.1459 0.73003 0.15445 C 0.78749 0.16301 0.83802 0.08047 0.8967 0.0911 C 0.9552 0.10174 1.04131 0.19607 1.08246 0.21781 C 1.12343 0.23954 1.13281 0.23075 1.14253 0.22197 E">
                                      <p:cBhvr>
                                        <p:cTn id="75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763E-006 L -0.65833 0.07769 E">
                                      <p:cBhvr>
                                        <p:cTn id="7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65833 0.07769 L -1.225 0.08879 E">
                                      <p:cBhvr>
                                        <p:cTn id="8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Need more lift?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ilot can increase lift during flight by changing the tilt of the 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eading edge of the wing is tilted up, the pressure above the wing is reduced, and more lift is cre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3108600" cy="202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4120" y="4343400"/>
            <a:ext cx="2743200" cy="206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38480" y="533412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2133720" y="2666880"/>
            <a:ext cx="2514600" cy="2008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Up, up, and away!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ing is tilted,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gle of att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re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gle of atta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ngle created by the tilt of an aircraft’s win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ing’s edge forms one side of the angle and the air stream forms the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90720" y="4800600"/>
            <a:ext cx="7391160" cy="15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6.66667E-006 6.35838E-007 C 0.07951 -0.00209 0.15902 -0.00417 0.2302 -0.01896 C 0.30138 -0.03376 0.35572 -0.03284 0.4269 -0.08879 C 0.49808 -0.14474 0.60069 -0.26844 0.65694 -0.35515 C 0.71354 -0.44185 0.74461 -0.55029 0.7651 -0.60856 C 0.78541 -0.66729 0.78229 -0.68671 0.77933 -0.70613 E">
                                      <p:cBhvr>
                                        <p:cTn id="121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3733920" cy="296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048120" y="3505320"/>
            <a:ext cx="1162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h n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Angle of attack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the angle of attack increases the l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f the angle of attack is to big, the wing will stall and there will be no lift at 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227484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4572000" cy="3267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Too much attack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2280" y="1066680"/>
            <a:ext cx="3657600" cy="2984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962520" y="3962520"/>
            <a:ext cx="3886200" cy="268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875a"/>
                </a:solidFill>
                <a:latin typeface="Times New Roman"/>
              </a:rPr>
              <a:t>Review</a:t>
            </a:r>
            <a:endParaRPr b="0" lang="en-US" sz="4000" spc="-1" strike="noStrike">
              <a:solidFill>
                <a:srgbClr val="2d875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foils cause lift and have two parts:  leading edge and trailing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lting the wing increases the angle of attack.  A greater angle of attack increase l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5486400" cy="1092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289548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ading edg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5080" y="3124080"/>
            <a:ext cx="2428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iling E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600200" y="5334120"/>
            <a:ext cx="5715000" cy="11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9:34:33Z</dcterms:created>
  <dc:creator>Teacher</dc:creator>
  <dc:description/>
  <cp:keywords/>
  <dc:language>en-US</dc:language>
  <cp:lastModifiedBy>Teacher</cp:lastModifiedBy>
  <dcterms:modified xsi:type="dcterms:W3CDTF">2006-05-24T11:17:26Z</dcterms:modified>
  <cp:revision>13</cp:revision>
  <dc:subject/>
  <dc:title>Fl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61033</vt:lpwstr>
  </property>
</Properties>
</file>